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B24-E04E-4570-90D3-FAF93D80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D8B-7958-4E16-A931-BC66ECAD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E2C-6EF5-4E79-9C64-2E7FA7DE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E45-90AB-4F0C-8A88-52E04175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295-963E-4558-A931-73C41A33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208-7E74-4845-A92F-EB13FD4B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5BF-967E-4108-BFEA-4D8E431A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E63-92D1-4987-AC99-F441551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0FF-2DB8-4EFB-BF8A-22F815AE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9F4-D66A-4DD1-AEDE-DBFEFFB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198-9FEE-4A14-A96F-089230C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1FC-E9D9-4A4B-880F-6E64A060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4EA5-84E3-4498-8C22-7EEF8B85D8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enske.wikispaces.com/" TargetMode="External"/><Relationship Id="rId3" Type="http://schemas.openxmlformats.org/officeDocument/2006/relationships/hyperlink" Target="http://senske.wikispaces.com/" TargetMode="External"/><Relationship Id="rId4" Type="http://schemas.openxmlformats.org/officeDocument/2006/relationships/hyperlink" Target="http://senske.wikispaces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835200" y="476280"/>
            <a:ext cx="7327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(LOVE college football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watching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9480" y="529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, Applied Math, Intro to St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907920" y="-139680"/>
            <a:ext cx="7328160" cy="1146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Grew up in Bucks Coun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09480" y="17161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Went to Temple/Holy Family/Wide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2514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Live loc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3316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Enjoy traveling, sporting ev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3520" y="4191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Been with CB for 6 years, been teaching for 9 year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749160" y="-139680"/>
            <a:ext cx="7651800" cy="1146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5720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2 teachers in the classroom at all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57200" y="1676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1 Math teacher, 1 Special Ed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457200" y="24382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Math teacher -&gt; content of the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Special Ed teacher -&gt; adaptations to instr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33520" y="4764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A lot of in-class help availab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91440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MAIL!!!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914400" y="2000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Voicemail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Rectangle 6" descr=""/>
          <p:cNvPicPr/>
          <p:nvPr/>
        </p:nvPicPr>
        <p:blipFill>
          <a:blip r:embed="rId1"/>
          <a:stretch/>
        </p:blipFill>
        <p:spPr>
          <a:xfrm>
            <a:off x="1865160" y="-36360"/>
            <a:ext cx="4707000" cy="1116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8" descr=""/>
          <p:cNvPicPr/>
          <p:nvPr/>
        </p:nvPicPr>
        <p:blipFill>
          <a:blip r:embed="rId2"/>
          <a:stretch/>
        </p:blipFill>
        <p:spPr>
          <a:xfrm>
            <a:off x="1736640" y="2700360"/>
            <a:ext cx="4975200" cy="1116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914400" y="3809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 (Ms. Lang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914400" y="46274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uring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914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(Mrs. McNeli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2" descr=""/>
          <p:cNvPicPr/>
          <p:nvPr/>
        </p:nvPicPr>
        <p:blipFill>
          <a:blip r:embed="rId1"/>
          <a:stretch/>
        </p:blipFill>
        <p:spPr>
          <a:xfrm>
            <a:off x="165240" y="-208080"/>
            <a:ext cx="872316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480" y="116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Real World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09480" y="177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Business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09480" y="253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students for the kind of math that they will do in their everyday l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09480" y="390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When will I ever use this stuff?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09480" y="5124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 HOMEWORK!!  But we collect and grade everything done in clas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2057400" y="129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In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05740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Checking and Savings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Rectangle 6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339040" cy="834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057400" y="2478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Credit C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0574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Buying a c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057400" y="3621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Inte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2057400" y="423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Ta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2057400" y="484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Insu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2057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Loans and Mortg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8" descr=""/>
          <p:cNvPicPr/>
          <p:nvPr/>
        </p:nvPicPr>
        <p:blipFill>
          <a:blip r:embed="rId1"/>
          <a:stretch/>
        </p:blipFill>
        <p:spPr>
          <a:xfrm>
            <a:off x="2487600" y="1908000"/>
            <a:ext cx="4046400" cy="111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304920" y="3056040"/>
            <a:ext cx="8610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11-02-02T17:17:29Z</dcterms:modified>
  <cp:revision>54</cp:revision>
  <dc:subject/>
  <dc:title>Slide 1</dc:title>
</cp:coreProperties>
</file>